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3.jpeg" ContentType="image/jpeg"/>
  <Override PartName="/ppt/media/image20.gif" ContentType="image/gif"/>
  <Override PartName="/ppt/media/image52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3.jpeg" ContentType="image/jpeg"/>
  <Override PartName="/ppt/media/image36.png" ContentType="image/png"/>
  <Override PartName="/ppt/media/image44.jpeg" ContentType="image/jpeg"/>
  <Override PartName="/ppt/media/%D0%9F%D1%82%D0%B8%D1%86%D1%8B.wav" ContentType="audio/x-wav"/>
  <Override PartName="/ppt/media/image34.jpeg" ContentType="image/jpeg"/>
  <Override PartName="/ppt/media/image31.jpeg" ContentType="image/jpeg"/>
  <Override PartName="/ppt/media/image30.jpeg" ContentType="image/jpeg"/>
  <Override PartName="/ppt/media/image28.gif" ContentType="image/gif"/>
  <Override PartName="/ppt/media/image33.jpeg" ContentType="image/jpeg"/>
  <Override PartName="/ppt/media/image27.png" ContentType="image/pn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1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29.gif" ContentType="image/gif"/>
  <Override PartName="/ppt/media/image15.jpeg" ContentType="image/jpeg"/>
  <Override PartName="/ppt/media/image32.jpeg" ContentType="image/jpeg"/>
  <Override PartName="/ppt/media/image70.png" ContentType="image/png"/>
  <Override PartName="/ppt/media/image64.jpeg" ContentType="image/jpeg"/>
  <Override PartName="/ppt/media/image38.jpeg" ContentType="image/jpeg"/>
  <Override PartName="/ppt/media/image69.gif" ContentType="image/gif"/>
  <Override PartName="/ppt/media/image25.png" ContentType="image/png"/>
  <Override PartName="/ppt/media/image54.jpeg" ContentType="image/jpeg"/>
  <Override PartName="/ppt/media/type.wav" ContentType="audio/x-wav"/>
  <Override PartName="/ppt/media/image63.jpeg" ContentType="image/jpeg"/>
  <Override PartName="/ppt/media/projctor.wav" ContentType="audio/x-wav"/>
  <Override PartName="/ppt/media/image58.jpeg" ContentType="image/jpeg"/>
  <Override PartName="/ppt/media/image67.jpeg" ContentType="image/jpeg"/>
  <Override PartName="/ppt/media/image56.jpeg" ContentType="image/jpeg"/>
  <Override PartName="/ppt/media/image66.jpeg" ContentType="image/jpeg"/>
  <Override PartName="/ppt/media/image61.jpeg" ContentType="image/jpeg"/>
  <Override PartName="/ppt/media/image4.jpeg" ContentType="image/jpeg"/>
  <Override PartName="/ppt/media/image55.jpeg" ContentType="image/jpeg"/>
  <Override PartName="/ppt/media/image65.jpeg" ContentType="image/jpeg"/>
  <Override PartName="/ppt/media/image17.png" ContentType="image/png"/>
  <Override PartName="/ppt/media/image39.jpeg" ContentType="image/jpeg"/>
  <Override PartName="/ppt/media/image57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chimes.wav" ContentType="audio/x-wav"/>
  <Override PartName="/ppt/media/image21.jpeg" ContentType="image/jpeg"/>
  <Override PartName="/ppt/media/image6.jpeg" ContentType="image/jpeg"/>
  <Override PartName="/ppt/media/image71.png" ContentType="image/png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5.jpeg" ContentType="image/jpeg"/>
  <Override PartName="/ppt/media/image50.png" ContentType="image/png"/>
  <Override PartName="/ppt/media/image9.wmf" ContentType="image/x-wmf"/>
  <Override PartName="/ppt/media/image42.jpeg" ContentType="image/jpeg"/>
  <Override PartName="/ppt/media/image18.png" ContentType="image/png"/>
  <Override PartName="/ppt/media/image59.jpeg" ContentType="image/jpeg"/>
  <Override PartName="/ppt/media/camera.wav" ContentType="audio/x-wav"/>
  <Override PartName="/ppt/media/image10.jpeg" ContentType="image/jpeg"/>
  <Override PartName="/ppt/media/image62.jpeg" ContentType="image/jpeg"/>
  <Override PartName="/ppt/media/image19.png" ContentType="image/png"/>
  <Override PartName="/ppt/media/whoosh.wav" ContentType="audio/x-wav"/>
  <Override PartName="/ppt/media/image51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1A0-B2ED-4B7B-ABDD-A9CF05BE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5C7-CAA7-42DB-9AC8-4F94321E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AC5-9DF2-4613-B46E-DFE4760E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46F-687B-4569-A0A3-8FE1A7F2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73DE-5DFE-456D-A5A0-2E8BDABE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43EE-CC5F-4B04-8F00-73104E01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CEBD-5D29-41C2-976A-FE70752F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3861-FF55-4E9E-BE94-E2ECC9F0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F90D-1D3F-4853-AECF-F6A6984D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24EE-86F3-4846-AC3D-40E0A127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535E-0EC2-457D-9AD4-5BEB0229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128-80CE-446F-A1A2-3E4FEB57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1F3E-07BD-42DA-86B6-C259DF58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82BF-C20B-4B56-8924-C1B41912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0F74-4943-47DE-94C3-F9885626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62A3-E979-4E78-B905-19C3E78C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9A0C-A6D4-4139-A53F-DAA3423C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FEF-F678-44EF-9E2B-85D282A0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5F5-E63C-45B6-A5BA-1B1B3166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969-F1A6-44B4-B3C3-768EB214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7B4-79FF-432A-A801-B891C10D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EE5-11F6-4A36-A7F3-C43821B6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127-3B06-45CF-BF3A-F1DF12AF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C6F-73B6-41A1-A04B-11670131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6C03-AF12-462A-ABB3-8AFD8584A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0FCB-AF99-4A98-A744-C808A76138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hyperlink" Target="http://tmn.fio.ru/works/26x/304/d4_3.htm" TargetMode="External"/><Relationship Id="rId3" Type="http://schemas.openxmlformats.org/officeDocument/2006/relationships/hyperlink" Target="http://tmn.fio.ru/works/26x/304/d4_3.htm" TargetMode="External"/><Relationship Id="rId4" Type="http://schemas.openxmlformats.org/officeDocument/2006/relationships/image" Target="../media/image30.jpeg"/><Relationship Id="rId5" Type="http://schemas.openxmlformats.org/officeDocument/2006/relationships/audio" Target="../media/projctor.wav"/><Relationship Id="rId6" Type="http://schemas.openxmlformats.org/officeDocument/2006/relationships/audio" Target="../media/whoosh.wav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&#1055;&#1090;&#1080;&#1094;&#1099;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jpeg"/><Relationship Id="rId10" Type="http://schemas.openxmlformats.org/officeDocument/2006/relationships/image" Target="../media/image47.jpeg"/><Relationship Id="rId11" Type="http://schemas.openxmlformats.org/officeDocument/2006/relationships/image" Target="../media/image48.jpeg"/><Relationship Id="rId12" Type="http://schemas.openxmlformats.org/officeDocument/2006/relationships/image" Target="../media/image49.jpeg"/><Relationship Id="rId13" Type="http://schemas.openxmlformats.org/officeDocument/2006/relationships/image" Target="../media/image50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hyperlink" Target="file:///F:/&#1059;&#1095;&#1077;&#1073;&#1085;&#1086;-&#1084;&#1077;&#1090;&#1086;&#1076;&#1080;&#1095;&#1077;&#1089;&#1082;&#1080;&#1077;%20&#1084;&#1072;&#1090;&#1077;&#1088;&#1080;&#1072;&#1083;&#1099;/&#1091;&#1095;&#1080;&#1090;&#1077;&#1083;&#1102;%20&#1084;&#1072;&#1090;&#1077;&#1084;&#1072;&#1090;&#1080;&#1082;&#1080;/&#1084;&#1085;&#1086;&#1075;&#1086;&#1075;&#1088;&#1072;&#1085;&#1085;&#1080;&#1082;&#1080;/www.nips.riss-telecom.ru/poly/uniform/nonconvex/index.html" TargetMode="External"/><Relationship Id="rId3" Type="http://schemas.openxmlformats.org/officeDocument/2006/relationships/hyperlink" Target="file:///F:/&#1059;&#1095;&#1077;&#1073;&#1085;&#1086;-&#1084;&#1077;&#1090;&#1086;&#1076;&#1080;&#1095;&#1077;&#1089;&#1082;&#1080;&#1077;%20&#1084;&#1072;&#1090;&#1077;&#1088;&#1080;&#1072;&#1083;&#1099;/&#1091;&#1095;&#1080;&#1090;&#1077;&#1083;&#1102;%20&#1084;&#1072;&#1090;&#1077;&#1084;&#1072;&#1090;&#1080;&#1082;&#1080;/&#1084;&#1085;&#1086;&#1075;&#1086;&#1075;&#1088;&#1072;&#1085;&#1085;&#1080;&#1082;&#1080;/www.nips.riss-telecom.ru/poly/uniform/convex/platonic/index.html" TargetMode="External"/><Relationship Id="rId4" Type="http://schemas.openxmlformats.org/officeDocument/2006/relationships/hyperlink" Target="file:///F:/&#1059;&#1095;&#1077;&#1073;&#1085;&#1086;-&#1084;&#1077;&#1090;&#1086;&#1076;&#1080;&#1095;&#1077;&#1089;&#1082;&#1080;&#1077;%20&#1084;&#1072;&#1090;&#1077;&#1088;&#1080;&#1072;&#1083;&#1099;/&#1091;&#1095;&#1080;&#1090;&#1077;&#1083;&#1102;%20&#1084;&#1072;&#1090;&#1077;&#1084;&#1072;&#1090;&#1080;&#1082;&#1080;/&#1084;&#1085;&#1086;&#1075;&#1086;&#1075;&#1088;&#1072;&#1085;&#1085;&#1080;&#1082;&#1080;/www.nips.riss-telecom.ru/poly/uniform/convex/platonic/index.html" TargetMode="External"/><Relationship Id="rId5" Type="http://schemas.openxmlformats.org/officeDocument/2006/relationships/hyperlink" Target="file:///F:/&#1059;&#1095;&#1077;&#1073;&#1085;&#1086;-&#1084;&#1077;&#1090;&#1086;&#1076;&#1080;&#1095;&#1077;&#1089;&#1082;&#1080;&#1077;%20&#1084;&#1072;&#1090;&#1077;&#1088;&#1080;&#1072;&#1083;&#1099;/&#1091;&#1095;&#1080;&#1090;&#1077;&#1083;&#1102;%20&#1084;&#1072;&#1090;&#1077;&#1084;&#1072;&#1090;&#1080;&#1082;&#1080;/&#1084;&#1085;&#1086;&#1075;&#1086;&#1075;&#1088;&#1072;&#1085;&#1085;&#1080;&#1082;&#1080;/www.nips.riss-telecom.ru/poly/uniform/index.html" TargetMode="External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hyperlink" Target="http://tmn.fio.ru/works/26x/304/d9_2.htm" TargetMode="External"/><Relationship Id="rId3" Type="http://schemas.openxmlformats.org/officeDocument/2006/relationships/hyperlink" Target="http://tmn.fio.ru/works/26x/304/d9_2.htm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projctor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F:/&#1059;&#1095;&#1077;&#1073;&#1085;&#1086;-&#1084;&#1077;&#1090;&#1086;&#1076;&#1080;&#1095;&#1077;&#1089;&#1082;&#1080;&#1077;%20&#1084;&#1072;&#1090;&#1077;&#1088;&#1080;&#1072;&#1083;&#1099;/&#1091;&#1095;&#1080;&#1090;&#1077;&#1083;&#1102;%20&#1084;&#1072;&#1090;&#1077;&#1084;&#1072;&#1090;&#1080;&#1082;&#1080;/&#1084;&#1085;&#1086;&#1075;&#1086;&#1075;&#1088;&#1072;&#1085;&#1085;&#1080;&#1082;&#1080;/www.nips.riss-telecom.ru/poly/uniform/convex/platonic/tetrahedron.html" TargetMode="External"/><Relationship Id="rId2" Type="http://schemas.openxmlformats.org/officeDocument/2006/relationships/hyperlink" Target="file:///F:/&#1059;&#1095;&#1077;&#1073;&#1085;&#1086;-&#1084;&#1077;&#1090;&#1086;&#1076;&#1080;&#1095;&#1077;&#1089;&#1082;&#1080;&#1077;%20&#1084;&#1072;&#1090;&#1077;&#1088;&#1080;&#1072;&#1083;&#1099;/&#1091;&#1095;&#1080;&#1090;&#1077;&#1083;&#1102;%20&#1084;&#1072;&#1090;&#1077;&#1084;&#1072;&#1090;&#1080;&#1082;&#1080;/&#1084;&#1085;&#1086;&#1075;&#1086;&#1075;&#1088;&#1072;&#1085;&#1085;&#1080;&#1082;&#1080;/www.nips.riss-telecom.ru/poly/uniform/convex/platonic/octahedron.html" TargetMode="External"/><Relationship Id="rId3" Type="http://schemas.openxmlformats.org/officeDocument/2006/relationships/hyperlink" Target="file:///F:/&#1059;&#1095;&#1077;&#1073;&#1085;&#1086;-&#1084;&#1077;&#1090;&#1086;&#1076;&#1080;&#1095;&#1077;&#1089;&#1082;&#1080;&#1077;%20&#1084;&#1072;&#1090;&#1077;&#1088;&#1080;&#1072;&#1083;&#1099;/&#1091;&#1095;&#1080;&#1090;&#1077;&#1083;&#1102;%20&#1084;&#1072;&#1090;&#1077;&#1084;&#1072;&#1090;&#1080;&#1082;&#1080;/&#1084;&#1085;&#1086;&#1075;&#1086;&#1075;&#1088;&#1072;&#1085;&#1085;&#1080;&#1082;&#1080;/www.nips.riss-telecom.ru/poly/uniform/convex/platonic/icosahedron.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F:/&#1059;&#1095;&#1077;&#1073;&#1085;&#1086;-&#1084;&#1077;&#1090;&#1086;&#1076;&#1080;&#1095;&#1077;&#1089;&#1082;&#1080;&#1077;%20&#1084;&#1072;&#1090;&#1077;&#1088;&#1080;&#1072;&#1083;&#1099;/&#1091;&#1095;&#1080;&#1090;&#1077;&#1083;&#1102;%20&#1084;&#1072;&#1090;&#1077;&#1084;&#1072;&#1090;&#1080;&#1082;&#1080;/&#1084;&#1085;&#1086;&#1075;&#1086;&#1075;&#1088;&#1072;&#1085;&#1085;&#1080;&#1082;&#1080;/www.nips.riss-telecom.ru/poly/uniform/convex/platonic/cube.html" TargetMode="External"/><Relationship Id="rId2" Type="http://schemas.openxmlformats.org/officeDocument/2006/relationships/hyperlink" Target="file:///F:/&#1059;&#1095;&#1077;&#1073;&#1085;&#1086;-&#1084;&#1077;&#1090;&#1086;&#1076;&#1080;&#1095;&#1077;&#1089;&#1082;&#1080;&#1077;%20&#1084;&#1072;&#1090;&#1077;&#1088;&#1080;&#1072;&#1083;&#1099;/&#1091;&#1095;&#1080;&#1090;&#1077;&#1083;&#1102;%20&#1084;&#1072;&#1090;&#1077;&#1084;&#1072;&#1090;&#1080;&#1082;&#1080;/&#1084;&#1085;&#1086;&#1075;&#1086;&#1075;&#1088;&#1072;&#1085;&#1085;&#1080;&#1082;&#1080;/www.nips.riss-telecom.ru/poly/uniform/convex/platonic/cube.html" TargetMode="External"/><Relationship Id="rId3" Type="http://schemas.openxmlformats.org/officeDocument/2006/relationships/hyperlink" Target="file:///F:/&#1059;&#1095;&#1077;&#1073;&#1085;&#1086;-&#1084;&#1077;&#1090;&#1086;&#1076;&#1080;&#1095;&#1077;&#1089;&#1082;&#1080;&#1077;%20&#1084;&#1072;&#1090;&#1077;&#1088;&#1080;&#1072;&#1083;&#1099;/&#1091;&#1095;&#1080;&#1090;&#1077;&#1083;&#1102;%20&#1084;&#1072;&#1090;&#1077;&#1084;&#1072;&#1090;&#1080;&#1082;&#1080;/&#1084;&#1085;&#1086;&#1075;&#1086;&#1075;&#1088;&#1072;&#1085;&#1085;&#1080;&#1082;&#1080;/www.nips.riss-telecom.ru/poly/uniform/convex/platonic/dodecahedron.html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png"/><Relationship Id="rId11" Type="http://schemas.openxmlformats.org/officeDocument/2006/relationships/image" Target="../media/image26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585720"/>
            <a:ext cx="8386920" cy="5756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5254560"/>
            <a:ext cx="8534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ло =В-Р+Г называется</a:t>
            </a:r>
            <a:r>
              <a:rPr b="0" i="1" lang="ru-RU" sz="2000" spc="-1" strike="noStrike">
                <a:solidFill>
                  <a:srgbClr val="c1c1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эйлеровой характеристикой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гранника. Согласно теореме Эйлера, для выпуклого многогранника эта характеристика равна 2. То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эйлерова характеристика равна 2 для некоторых знакомых нам многогранников, видно из таблиц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-609480" y="533520"/>
            <a:ext cx="10210320" cy="990000"/>
            <a:chOff x="-609480" y="533520"/>
            <a:chExt cx="10210320" cy="990000"/>
          </a:xfrm>
        </p:grpSpPr>
        <p:sp>
          <p:nvSpPr>
            <p:cNvPr id="202" name=""/>
            <p:cNvSpPr/>
            <p:nvPr/>
          </p:nvSpPr>
          <p:spPr>
            <a:xfrm>
              <a:off x="-609480" y="533520"/>
              <a:ext cx="10210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            </a:t>
              </a: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Теорема Эйлера.</a:t>
              </a:r>
              <a:r>
                <a:rPr b="0" lang="en-US" sz="1400" spc="-1" strike="noStrike">
                  <a:solidFill>
                    <a:srgbClr val="c1c1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усть</a:t>
              </a:r>
              <a:r>
                <a:rPr b="0" i="1" lang="en-US" sz="2000" spc="-1" strike="noStrike">
                  <a:solidFill>
                    <a:srgbClr val="c1c1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33"/>
                  </a:solidFill>
                  <a:latin typeface="Times New Roman"/>
                  <a:ea typeface="Times New Roman"/>
                </a:rPr>
                <a:t>В</a:t>
              </a:r>
              <a:r>
                <a:rPr b="0" i="1" lang="en-US" sz="2000" spc="-1" strike="noStrike">
                  <a:solidFill>
                    <a:srgbClr val="c1c1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-- число вершин выпуклого многогранник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i="1" lang="en-US" sz="2000" spc="-1" strike="noStrike">
                  <a:solidFill>
                    <a:srgbClr val="c1c1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Р</a:t>
              </a:r>
              <a:r>
                <a:rPr b="0" i="1" lang="en-US" sz="2000" spc="-1" strike="noStrike">
                  <a:solidFill>
                    <a:srgbClr val="c1c1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-- число ег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                              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ёбер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и</a:t>
              </a:r>
              <a:r>
                <a:rPr b="0" i="1" lang="en-US" sz="2000" spc="-1" strike="noStrike">
                  <a:solidFill>
                    <a:srgbClr val="c1c1ff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Г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-- число граней.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Тогда верно равенство</a:t>
              </a:r>
              <a:r>
                <a:rPr b="0" i="1" lang="en-US" sz="2000" spc="-1" strike="noStrike">
                  <a:solidFill>
                    <a:srgbClr val="c1c1ff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33"/>
                  </a:solidFill>
                  <a:latin typeface="Times New Roman"/>
                </a:rPr>
                <a:t>В-Р+Г=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-609480" y="857520"/>
              <a:ext cx="10210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           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-609480" y="1181160"/>
              <a:ext cx="102103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6248520" cy="3584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620120" y="2133720"/>
            <a:ext cx="124596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6" presetSubtype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9000"/>
                            </p:stCondLst>
                            <p:childTnLst>
                              <p:par>
                                <p:cTn id="285" nodeType="after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685800" y="1143000"/>
            <a:ext cx="4724280" cy="1295280"/>
            <a:chOff x="685800" y="1143000"/>
            <a:chExt cx="4724280" cy="1295280"/>
          </a:xfrm>
        </p:grpSpPr>
        <p:sp>
          <p:nvSpPr>
            <p:cNvPr id="208" name=""/>
            <p:cNvSpPr/>
            <p:nvPr/>
          </p:nvSpPr>
          <p:spPr>
            <a:xfrm>
              <a:off x="685800" y="1143000"/>
              <a:ext cx="4724280" cy="1295280"/>
            </a:xfrm>
            <a:prstGeom prst="rect">
              <a:avLst/>
            </a:prstGeom>
            <a:solidFill>
              <a:srgbClr val="fff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5800" y="1143000"/>
              <a:ext cx="4724280" cy="1295280"/>
            </a:xfrm>
            <a:prstGeom prst="rect">
              <a:avLst/>
            </a:prstGeom>
            <a:solidFill>
              <a:srgbClr val="fff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Числ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о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ершин минус число рёбер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люс число граней равно двум.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52280" y="3276720"/>
            <a:ext cx="3543480" cy="3292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80880" y="152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Теорема Эйлера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>
            <a:hlinkClick r:id="rId2"/>
          </p:cNvPr>
          <p:cNvSpPr/>
          <p:nvPr/>
        </p:nvSpPr>
        <p:spPr>
          <a:xfrm>
            <a:off x="333360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el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048120"/>
            <a:ext cx="2990880" cy="3543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095880" y="12952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imes New Roman"/>
              </a:rPr>
              <a:t>В – Р + Г =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Октаэдр (JPEG)"/>
          <p:cNvPicPr/>
          <p:nvPr/>
        </p:nvPicPr>
        <p:blipFill>
          <a:blip r:embed="rId1"/>
          <a:stretch/>
        </p:blipFill>
        <p:spPr>
          <a:xfrm>
            <a:off x="6324480" y="533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Куб (JPEG)"/>
          <p:cNvPicPr/>
          <p:nvPr/>
        </p:nvPicPr>
        <p:blipFill>
          <a:blip r:embed="rId2"/>
          <a:stretch/>
        </p:blipFill>
        <p:spPr>
          <a:xfrm>
            <a:off x="342900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Додекаэдр (JPEG)"/>
          <p:cNvPicPr/>
          <p:nvPr/>
        </p:nvPicPr>
        <p:blipFill>
          <a:blip r:embed="rId3"/>
          <a:stretch/>
        </p:blipFill>
        <p:spPr>
          <a:xfrm>
            <a:off x="6400800" y="3809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Икосаэдр (JPEG)"/>
          <p:cNvPicPr/>
          <p:nvPr/>
        </p:nvPicPr>
        <p:blipFill>
          <a:blip r:embed="rId4"/>
          <a:stretch/>
        </p:blipFill>
        <p:spPr>
          <a:xfrm>
            <a:off x="609480" y="3809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Тетраэдр (JPEG)"/>
          <p:cNvPicPr/>
          <p:nvPr/>
        </p:nvPicPr>
        <p:blipFill>
          <a:blip r:embed="rId5"/>
          <a:stretch/>
        </p:blipFill>
        <p:spPr>
          <a:xfrm>
            <a:off x="609480" y="457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6212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Тетраэд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6172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косаэд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4800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ексаэд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6248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6172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Додекаэд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2971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ктаэд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500"/>
                            </p:stCondLst>
                            <p:childTnLst>
                              <p:par>
                                <p:cTn id="3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372600" cy="7461360"/>
          </a:xfrm>
          <a:prstGeom prst="rect">
            <a:avLst/>
          </a:prstGeom>
          <a:gradFill rotWithShape="0">
            <a:gsLst>
              <a:gs pos="0">
                <a:srgbClr val="4cd2cf"/>
              </a:gs>
              <a:gs pos="50000">
                <a:srgbClr val="1ceeee"/>
              </a:gs>
              <a:gs pos="100000">
                <a:srgbClr val="4cd2cf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D0%9F%D1%82%D0%B8%D1%86%D1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Архимедовы тела"/>
          <p:cNvPicPr/>
          <p:nvPr/>
        </p:nvPicPr>
        <p:blipFill>
          <a:blip r:embed="rId1"/>
          <a:stretch/>
        </p:blipFill>
        <p:spPr>
          <a:xfrm>
            <a:off x="755640" y="3141720"/>
            <a:ext cx="4397400" cy="32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0880" y="304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Тела Архимед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Архимед"/>
          <p:cNvPicPr/>
          <p:nvPr/>
        </p:nvPicPr>
        <p:blipFill>
          <a:blip r:embed="rId2"/>
          <a:stretch/>
        </p:blipFill>
        <p:spPr>
          <a:xfrm>
            <a:off x="6084720" y="3141720"/>
            <a:ext cx="2428920" cy="3311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68360" y="1125360"/>
            <a:ext cx="83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рхимедовыми телам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называются полуправильные однородные выпуклые многогранники, то есть выпуклые многогранники, все многогранные углы которых равны, а грани - правильные многоугольники нескольких тип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708360" y="333360"/>
            <a:ext cx="352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Тел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Архимед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Модель усеченного додекаэдра (VRML)"/>
          <p:cNvPicPr/>
          <p:nvPr/>
        </p:nvPicPr>
        <p:blipFill>
          <a:blip r:embed="rId1"/>
          <a:stretch/>
        </p:blipFill>
        <p:spPr>
          <a:xfrm>
            <a:off x="7315200" y="152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Модель усеченного тетраэдра (VRML)"/>
          <p:cNvPicPr/>
          <p:nvPr/>
        </p:nvPicPr>
        <p:blipFill>
          <a:blip r:embed="rId2"/>
          <a:stretch/>
        </p:blipFill>
        <p:spPr>
          <a:xfrm>
            <a:off x="228600" y="152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Модель усеченного октаэдра (VRML)"/>
          <p:cNvPicPr/>
          <p:nvPr/>
        </p:nvPicPr>
        <p:blipFill>
          <a:blip r:embed="rId3"/>
          <a:stretch/>
        </p:blipFill>
        <p:spPr>
          <a:xfrm>
            <a:off x="2233440" y="174600"/>
            <a:ext cx="1528920" cy="1528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Модель усеченного икосаэдра (VRML)"/>
          <p:cNvPicPr/>
          <p:nvPr/>
        </p:nvPicPr>
        <p:blipFill>
          <a:blip r:embed="rId4"/>
          <a:stretch/>
        </p:blipFill>
        <p:spPr>
          <a:xfrm>
            <a:off x="228600" y="18288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Модель кубоктаэдра (VRML)"/>
          <p:cNvPicPr/>
          <p:nvPr/>
        </p:nvPicPr>
        <p:blipFill>
          <a:blip r:embed="rId5"/>
          <a:stretch/>
        </p:blipFill>
        <p:spPr>
          <a:xfrm>
            <a:off x="228600" y="35053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Модель икосододекаэдра (VRML)"/>
          <p:cNvPicPr/>
          <p:nvPr/>
        </p:nvPicPr>
        <p:blipFill>
          <a:blip r:embed="rId6"/>
          <a:stretch/>
        </p:blipFill>
        <p:spPr>
          <a:xfrm>
            <a:off x="228600" y="51814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Модель ромбокубоктаэдра (VRML)"/>
          <p:cNvPicPr/>
          <p:nvPr/>
        </p:nvPicPr>
        <p:blipFill>
          <a:blip r:embed="rId7"/>
          <a:stretch/>
        </p:blipFill>
        <p:spPr>
          <a:xfrm>
            <a:off x="2268360" y="3500280"/>
            <a:ext cx="1511640" cy="1511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Модель псевдоромбокубоктаэдра (VRML)"/>
          <p:cNvPicPr/>
          <p:nvPr/>
        </p:nvPicPr>
        <p:blipFill>
          <a:blip r:embed="rId8"/>
          <a:stretch/>
        </p:blipFill>
        <p:spPr>
          <a:xfrm>
            <a:off x="7327800" y="51768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Модель ромбоикосододекаэдра (VRML)"/>
          <p:cNvPicPr/>
          <p:nvPr/>
        </p:nvPicPr>
        <p:blipFill>
          <a:blip r:embed="rId9"/>
          <a:stretch/>
        </p:blipFill>
        <p:spPr>
          <a:xfrm>
            <a:off x="7315200" y="35053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Модель курносого додекаэдра - правая модификация (VRML)"/>
          <p:cNvPicPr/>
          <p:nvPr/>
        </p:nvPicPr>
        <p:blipFill>
          <a:blip r:embed="rId10"/>
          <a:stretch/>
        </p:blipFill>
        <p:spPr>
          <a:xfrm>
            <a:off x="4932360" y="2421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Модель ромбоусеченного икосододекаэдра (VRML)"/>
          <p:cNvPicPr/>
          <p:nvPr/>
        </p:nvPicPr>
        <p:blipFill>
          <a:blip r:embed="rId11"/>
          <a:stretch/>
        </p:blipFill>
        <p:spPr>
          <a:xfrm>
            <a:off x="7315200" y="18288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932360" y="4149720"/>
            <a:ext cx="1600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Те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Ашкинуз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Модель ромбоусеченного кубоктаэдра (VRML)"/>
          <p:cNvPicPr/>
          <p:nvPr/>
        </p:nvPicPr>
        <p:blipFill>
          <a:blip r:embed="rId12"/>
          <a:stretch/>
        </p:blipFill>
        <p:spPr>
          <a:xfrm>
            <a:off x="2556000" y="1844640"/>
            <a:ext cx="15238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2268360" y="5157720"/>
            <a:ext cx="1525680" cy="1510920"/>
            <a:chOff x="2268360" y="5157720"/>
            <a:chExt cx="1525680" cy="1510920"/>
          </a:xfrm>
        </p:grpSpPr>
        <p:sp>
          <p:nvSpPr>
            <p:cNvPr id="246" name=""/>
            <p:cNvSpPr/>
            <p:nvPr/>
          </p:nvSpPr>
          <p:spPr>
            <a:xfrm>
              <a:off x="2268360" y="5198040"/>
              <a:ext cx="1525680" cy="144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3"/>
            <a:stretch/>
          </p:blipFill>
          <p:spPr>
            <a:xfrm>
              <a:off x="2300400" y="5157720"/>
              <a:ext cx="1465200" cy="1510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9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4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9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4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9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4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9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400"/>
                            </p:stCondLst>
                            <p:childTnLst>
                              <p:par>
                                <p:cTn id="4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900"/>
                            </p:stCondLst>
                            <p:childTnLst>
                              <p:par>
                                <p:cTn id="4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00"/>
                            </p:stCondLst>
                            <p:childTnLst>
                              <p:par>
                                <p:cTn id="4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900"/>
                            </p:stCondLst>
                            <p:childTnLst>
                              <p:par>
                                <p:cTn id="4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400"/>
                            </p:stCondLst>
                            <p:childTnLst>
                              <p:par>
                                <p:cTn id="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900"/>
                            </p:stCondLst>
                            <p:childTnLst>
                              <p:par>
                                <p:cTn id="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40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304640" cy="1905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752480" y="304920"/>
            <a:ext cx="5486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Тела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Кеплера - Пуанс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2438280"/>
            <a:ext cx="6782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и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невыпуклых однородных многогранник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уществуют аналоги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платоновых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 те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четыр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авильных невыпуклых однородных многогранника     или    тела    Кеплера  -  Пуанс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следует из их названия, тела Кеплера-Пуансо - это невыпуклые </a:t>
            </a: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однородные многогранн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 все грани которых - одинаковые правильные многоугольники, и все многогранные углы которых равны. Грани при этом могут быть как выпуклыми, так и невыпуклы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Малый звездчатый додекаэдр"/>
          <p:cNvPicPr/>
          <p:nvPr/>
        </p:nvPicPr>
        <p:blipFill>
          <a:blip r:embed="rId6"/>
          <a:stretch/>
        </p:blipFill>
        <p:spPr>
          <a:xfrm>
            <a:off x="75438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Большой звездчатый додекаэдр"/>
          <p:cNvPicPr/>
          <p:nvPr/>
        </p:nvPicPr>
        <p:blipFill>
          <a:blip r:embed="rId7"/>
          <a:stretch/>
        </p:blipFill>
        <p:spPr>
          <a:xfrm>
            <a:off x="7543800" y="1828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Большой додекаэдр"/>
          <p:cNvPicPr/>
          <p:nvPr/>
        </p:nvPicPr>
        <p:blipFill>
          <a:blip r:embed="rId8"/>
          <a:stretch/>
        </p:blipFill>
        <p:spPr>
          <a:xfrm>
            <a:off x="7543800" y="3505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Большой икосаэдр"/>
          <p:cNvPicPr/>
          <p:nvPr/>
        </p:nvPicPr>
        <p:blipFill>
          <a:blip r:embed="rId9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Малый звездчатый додекаэдр (JPEG)"/>
          <p:cNvPicPr/>
          <p:nvPr/>
        </p:nvPicPr>
        <p:blipFill>
          <a:blip r:embed="rId1"/>
          <a:stretch/>
        </p:blipFill>
        <p:spPr>
          <a:xfrm>
            <a:off x="533520" y="2286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Большой звездчатый додекаэдр (JPEG)"/>
          <p:cNvPicPr/>
          <p:nvPr/>
        </p:nvPicPr>
        <p:blipFill>
          <a:blip r:embed="rId2"/>
          <a:stretch/>
        </p:blipFill>
        <p:spPr>
          <a:xfrm>
            <a:off x="4876920" y="3049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Большой додекаэдр (JPEG)"/>
          <p:cNvPicPr/>
          <p:nvPr/>
        </p:nvPicPr>
        <p:blipFill>
          <a:blip r:embed="rId3"/>
          <a:stretch/>
        </p:blipFill>
        <p:spPr>
          <a:xfrm>
            <a:off x="1447920" y="3581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Большой икосаэдр (JPEG)"/>
          <p:cNvPicPr/>
          <p:nvPr/>
        </p:nvPicPr>
        <p:blipFill>
          <a:blip r:embed="rId4"/>
          <a:stretch/>
        </p:blipFill>
        <p:spPr>
          <a:xfrm>
            <a:off x="6248520" y="3581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648320" y="259092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Большой звездчат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додекаэд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5943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Большой икосаэд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2590920"/>
            <a:ext cx="2361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Малый звездчат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додекаэд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5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900"/>
                            </p:stCondLst>
                            <p:childTnLst>
                              <p:par>
                                <p:cTn id="5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900"/>
                            </p:stCondLst>
                            <p:childTnLst>
                              <p:par>
                                <p:cTn id="5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6" dur="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800"/>
                            </p:stCondLst>
                            <p:childTnLst>
                              <p:par>
                                <p:cTn id="5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800"/>
                            </p:stCondLst>
                            <p:childTnLst>
                              <p:par>
                                <p:cTn id="5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7" dur="3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400"/>
                            </p:stCondLst>
                            <p:childTnLst>
                              <p:par>
                                <p:cTn id="5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Магнус Веннинджер"/>
          <p:cNvPicPr/>
          <p:nvPr/>
        </p:nvPicPr>
        <p:blipFill>
          <a:blip r:embed="rId1"/>
          <a:stretch/>
        </p:blipFill>
        <p:spPr>
          <a:xfrm>
            <a:off x="1447920" y="380880"/>
            <a:ext cx="6553080" cy="5243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600200" y="60958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агнус Веннинджер (1919г.р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durer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105080" cy="5257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219320" y="228600"/>
            <a:ext cx="7238880" cy="76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Times New Roman"/>
              </a:rPr>
              <a:t>Многогранники в искусств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1600200"/>
            <a:ext cx="44197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поху Возрождения большой интерес к формам правильных многогранников проявили скульпторы. архитекторы, художники. Леонардо да  Винчи (1452 -1519) например, увлекался теорией многогранников и часто изображал их на своих полотнах. Он  проиллюстрировал правильными и полуправильными многогранниками книгу Монаха Луки Пачоли ''О божественной пропорции.''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4280" y="4567320"/>
            <a:ext cx="40388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менитый художник, увлекавшийся геометрией Альбрехт Дюрер (1471- 1528) , в известной гравюре ''Меланхолия '‘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переднем плане изобразил додекаэд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624852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2"/>
              </a:rPr>
              <a:t>художник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3"/>
              </a:rPr>
              <a:t>Эш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Polyhedral World"/>
          <p:cNvPicPr/>
          <p:nvPr/>
        </p:nvPicPr>
        <p:blipFill>
          <a:blip r:embed="rId1"/>
          <a:stretch/>
        </p:blipFill>
        <p:spPr>
          <a:xfrm>
            <a:off x="1447920" y="22096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90720" y="6858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Univers Condensed"/>
              </a:rPr>
              <a:t>Мир многогранников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75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775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228600"/>
            <a:ext cx="86868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ука геометрия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озникла из практических задач, ее предложения выражают реальные факты и находят многочисленные применения. В конечном счете в основе всей техники так или иначе лежит геометрия, потому что она появляется всюду, где нужна хотя бы малейшая точность в определении формы и размеров. И технику, и инженеру, и квалифицированному рабочему и людям искусства геометрическое воображение необходимо, как геометру или архитектору. Математика, в частности геометрия, представляет собой могущественный инструмент познания природы, создания техники и преобразования мир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ные геометрические формы находят свое отражение практически во  во всех отраслях знаний: 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хитектура,  искусство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Многогранники в архитекту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arxitektura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4800600" cy="336852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1981080" y="3505320"/>
            <a:ext cx="6747120" cy="2590200"/>
            <a:chOff x="1981080" y="3505320"/>
            <a:chExt cx="6747120" cy="2590200"/>
          </a:xfrm>
        </p:grpSpPr>
        <p:sp>
          <p:nvSpPr>
            <p:cNvPr id="272" name=""/>
            <p:cNvSpPr/>
            <p:nvPr/>
          </p:nvSpPr>
          <p:spPr>
            <a:xfrm>
              <a:off x="1981080" y="3505320"/>
              <a:ext cx="3373560" cy="25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54640" y="3505320"/>
              <a:ext cx="3373560" cy="25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c1c1ff"/>
                  </a:solidFill>
                  <a:latin typeface="Times New Roman"/>
                  <a:ea typeface="Times New Roman"/>
                </a:rPr>
                <a:t>  </a:t>
              </a:r>
              <a:r>
                <a:rPr b="0" lang="en-US" sz="1200" spc="-1" strike="noStrike">
                  <a:solidFill>
                    <a:srgbClr val="006fdd"/>
                  </a:solidFill>
                  <a:latin typeface="Times New Roman"/>
                  <a:ea typeface="Times New Roman"/>
                </a:rPr>
                <a:t>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 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 всем облике японского строения очевидна идея преобразования пространства, подчинения его новой логике - логике "завоевания" природного ландшафта, которому противопоставлена четкая геометрия проникающих архитектурных форм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0" y="539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arxit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715000" cy="259092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914400" y="2514600"/>
            <a:ext cx="8229240" cy="2209680"/>
            <a:chOff x="914400" y="2514600"/>
            <a:chExt cx="8229240" cy="2209680"/>
          </a:xfrm>
        </p:grpSpPr>
        <p:sp>
          <p:nvSpPr>
            <p:cNvPr id="277" name=""/>
            <p:cNvSpPr/>
            <p:nvPr/>
          </p:nvSpPr>
          <p:spPr>
            <a:xfrm>
              <a:off x="914400" y="2514600"/>
              <a:ext cx="550296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17360" y="2514600"/>
              <a:ext cx="272628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икая пирамида в Гизе. Эта грандиозная Египетская пирамида является древнейшим из Семи чудес древности. Кроме того, это единственное из чудес, сохранившееся до наших дней. Во времена своего создания Великая пирамида была самым высоким сооружением в мире. И удерживала она этот рекорд, по всей видимости, почти 4000 лет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0" y="3413160"/>
            <a:ext cx="6172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ая пирамида была построена как гробница Хуфу, известного грекам как Хеопс. Он был одним из фараонов, или царей древнего Египта, а его гробница была завершена в 2580 году до н.э. Позднее в Гизе было построено еще две пирамиды, для сына и внука Хуфу, а также меньшие по размерам пирамиды для их цариц. Пирамида Хуфу, самая дальняя на рисунке, является самой большой. Пирамида его сына находится в середине и смотрится выше, потому что стоит на более высоком мест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8960" y="289548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1c1ff"/>
                </a:solidFill>
                <a:latin typeface="Times New Roman"/>
                <a:ea typeface="Times New Roman"/>
              </a:rPr>
              <a:t> 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ЦАРСКАЯ ГРОБНИ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914400" y="3809880"/>
            <a:ext cx="14553360" cy="2792520"/>
            <a:chOff x="914400" y="3809880"/>
            <a:chExt cx="14553360" cy="2792520"/>
          </a:xfrm>
        </p:grpSpPr>
        <p:sp>
          <p:nvSpPr>
            <p:cNvPr id="282" name=""/>
            <p:cNvSpPr/>
            <p:nvPr/>
          </p:nvSpPr>
          <p:spPr>
            <a:xfrm>
              <a:off x="914400" y="3809880"/>
              <a:ext cx="7276680" cy="27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33"/>
                  </a:solidFill>
                  <a:latin typeface="Times New Roman"/>
                  <a:ea typeface="Times New Roman"/>
                </a:rPr>
                <a:t>СТРОИТЕЛЬСТВО ПИРАМИД</a:t>
              </a:r>
              <a:r>
                <a:rPr b="0" lang="en-US" sz="1200" spc="-1" strike="noStrike">
                  <a:solidFill>
                    <a:srgbClr val="c1c1ff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1c1ff"/>
                  </a:solidFill>
                  <a:latin typeface="Times New Roman"/>
                  <a:ea typeface="Times New Roman"/>
                </a:rPr>
                <a:t>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   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ирамиды стоят на древнем кладбище в Гизе, на противоположном от Каира, столицы современного Египта, берегу реки Нил. Некоторые археологи считают, что, возможно, на строительство Великой пирамиды 100 000 человек потребовалось 20 лет. Она была создана из более чем 2 миллионов каменных блоков, каждый из которых весил не менее 2,5 тонн. Рабочие подтаскивали их к месту, используя пандусы, блоки и рычаги, а затем подгоняли друг к другу, без раствора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91080" y="3809880"/>
              <a:ext cx="7276680" cy="27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84" name="arxit6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095880" cy="31208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380880" y="1523880"/>
            <a:ext cx="7397640" cy="2062440"/>
            <a:chOff x="380880" y="1523880"/>
            <a:chExt cx="7397640" cy="2062440"/>
          </a:xfrm>
        </p:grpSpPr>
        <p:sp>
          <p:nvSpPr>
            <p:cNvPr id="286" name=""/>
            <p:cNvSpPr/>
            <p:nvPr/>
          </p:nvSpPr>
          <p:spPr>
            <a:xfrm>
              <a:off x="380880" y="1523880"/>
              <a:ext cx="4307760" cy="20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ОСТРОВ И МАЯ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 </a:t>
              </a:r>
              <a:r>
                <a:rPr b="0" i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аяк был построен на маленьком острове Фарос в Средиземном море, около берегов Александрии. Этот оживленный порт основал Александр Великий во время посещения Египта. Сооружение назвали по имени острова. На его строительство, должно быть, ушло 20 лет, а завершен он был около 280 г. до н.э., во времена правления Птолемея II, царя Египта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88640" y="1523880"/>
              <a:ext cx="3089880" cy="20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88" name="arxit8" descr=""/>
          <p:cNvPicPr/>
          <p:nvPr/>
        </p:nvPicPr>
        <p:blipFill>
          <a:blip r:embed="rId1"/>
          <a:stretch/>
        </p:blipFill>
        <p:spPr>
          <a:xfrm>
            <a:off x="5029200" y="228600"/>
            <a:ext cx="3308400" cy="4648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04920" y="4510080"/>
            <a:ext cx="91440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И БАШ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росский маяк состоял из трех мраморных башен, стоявших на основании и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ивных каменных блоков. Первая башня была прямоугольной, в     ней находились комнаты, в которых жили рабочие и солдаты. Над этой башней располагалась меньшая, восьмиугольная башня со спиральным пандусом, ведущим в верхнюю башн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arxit7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495840" cy="411480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-6934320" y="4648320"/>
            <a:ext cx="15620400" cy="2838240"/>
            <a:chOff x="-6934320" y="4648320"/>
            <a:chExt cx="15620400" cy="2838240"/>
          </a:xfrm>
        </p:grpSpPr>
        <p:sp>
          <p:nvSpPr>
            <p:cNvPr id="292" name=""/>
            <p:cNvSpPr/>
            <p:nvPr/>
          </p:nvSpPr>
          <p:spPr>
            <a:xfrm>
              <a:off x="-6934320" y="4648320"/>
              <a:ext cx="781020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5880" y="4648320"/>
              <a:ext cx="781020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 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III веке до н.э. был построен маяк, чтобы корабли могли благополучно миновать рифы на пути в Александрийскую бухту. Ночью им помогало в этом отражение языков пламени, а днем - столб дыма. Это был первый в мире маяк, и простоял он 1500 ле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т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143000" y="22860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ександрийский маяк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4" dur="3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40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Развёртки 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некоторых многогранников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80880" y="2590920"/>
            <a:ext cx="876312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799"/>
              </a:spcBef>
              <a:buClr>
                <a:srgbClr val="008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Правильные многогранники (тела Платон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Тела Архиме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Тела Кеплера-Пуанс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8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Невыпуклые полуправильные многогранн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500"/>
                            </p:stCondLst>
                            <p:childTnLst>
                              <p:par>
                                <p:cTn id="67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0"/>
                            </p:stCondLst>
                            <p:childTnLst>
                              <p:par>
                                <p:cTn id="68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684360" y="260280"/>
            <a:ext cx="7619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Авторы презентации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571320" cy="8571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643280" y="4653000"/>
            <a:ext cx="4249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читель математики                   высшей категории 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ОУ «СОШ №15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Bookman Old Style"/>
              </a:rPr>
              <a:t>Желтоног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ff9900"/>
                </a:solidFill>
                <a:latin typeface="Bookman Old Style"/>
              </a:rPr>
              <a:t>Ольга Алексее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58920" y="1771560"/>
          <a:ext cx="2077920" cy="280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1771560"/>
                    <a:ext cx="20779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0" y="4797360"/>
            <a:ext cx="435600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ченик 11 ф/м класс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ОУ «СОШ №15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. Ангарс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Bookman Old Style"/>
              </a:rPr>
              <a:t>Желтоногов  Иван</a:t>
            </a: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6"/>
          <a:srcRect l="38510" t="10140" r="27782" b="33465"/>
          <a:stretch/>
        </p:blipFill>
        <p:spPr>
          <a:xfrm>
            <a:off x="5724360" y="1844640"/>
            <a:ext cx="2202120" cy="2762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6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500"/>
                            </p:stCondLst>
                            <p:childTnLst>
                              <p:par>
                                <p:cTn id="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500"/>
                            </p:stCondLst>
                            <p:childTnLst>
                              <p:par>
                                <p:cTn id="7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500"/>
                            </p:stCondLst>
                            <p:childTnLst>
                              <p:par>
                                <p:cTn id="7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650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750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9500"/>
                            </p:stCondLst>
                            <p:childTnLst>
                              <p:par>
                                <p:cTn id="7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447920"/>
            <a:ext cx="6705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Математика владеет не только истиной, но и высшей красотой - красотой отточенной и строгой, возвышенно чистой и стремящейся к подлинному совершенству, которое свойственно лишь величайшим образцам искус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Бертран Рассе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Большой додекогемидодекаэдр (JPEG)"/>
          <p:cNvPicPr/>
          <p:nvPr/>
        </p:nvPicPr>
        <p:blipFill>
          <a:blip r:embed="rId1"/>
          <a:stretch/>
        </p:blipFill>
        <p:spPr>
          <a:xfrm>
            <a:off x="7162920" y="2286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14600" y="304920"/>
            <a:ext cx="380988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33"/>
                </a:solidFill>
                <a:latin typeface="Times New Roman"/>
              </a:rPr>
              <a:t>Многогранн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447920"/>
            <a:ext cx="2514600" cy="99036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Одноро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выпукл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1523880"/>
            <a:ext cx="2971800" cy="10670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1600200"/>
            <a:ext cx="20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Однородные                                                                                      невыпукл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 flipH="1">
            <a:off x="3123720" y="1143000"/>
            <a:ext cx="61056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4876920" y="1143000"/>
            <a:ext cx="457920" cy="953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28600" y="2819520"/>
            <a:ext cx="1828800" cy="1600200"/>
          </a:xfrm>
          <a:prstGeom prst="hexagon">
            <a:avLst>
              <a:gd name="adj" fmla="val 28571"/>
              <a:gd name="vf" fmla="val 11547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2819520"/>
            <a:ext cx="1752480" cy="1600200"/>
          </a:xfrm>
          <a:prstGeom prst="hexagon">
            <a:avLst>
              <a:gd name="adj" fmla="val 27379"/>
              <a:gd name="vf" fmla="val 11547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648320"/>
            <a:ext cx="2057400" cy="1828800"/>
          </a:xfrm>
          <a:prstGeom prst="hexagon">
            <a:avLst>
              <a:gd name="adj" fmla="val 28125"/>
              <a:gd name="vf" fmla="val 11547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4724280"/>
            <a:ext cx="1981080" cy="1905120"/>
          </a:xfrm>
          <a:prstGeom prst="pentagon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4419720"/>
            <a:ext cx="2286000" cy="2209680"/>
          </a:xfrm>
          <a:prstGeom prst="pentagon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 flipH="1">
            <a:off x="761400" y="2437920"/>
            <a:ext cx="118188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5" idx="2"/>
            <a:endCxn id="102" idx="0"/>
          </p:cNvCxnSpPr>
          <p:nvPr/>
        </p:nvCxnSpPr>
        <p:spPr>
          <a:xfrm>
            <a:off x="1790640" y="2437920"/>
            <a:ext cx="610560" cy="221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5" idx="2"/>
            <a:endCxn id="101" idx="0"/>
          </p:cNvCxnSpPr>
          <p:nvPr/>
        </p:nvCxnSpPr>
        <p:spPr>
          <a:xfrm>
            <a:off x="1790640" y="2437920"/>
            <a:ext cx="182952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6" idx="2"/>
          </p:cNvCxnSpPr>
          <p:nvPr/>
        </p:nvCxnSpPr>
        <p:spPr>
          <a:xfrm flipH="1">
            <a:off x="4952520" y="2590920"/>
            <a:ext cx="1944000" cy="1845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6" idx="2"/>
            <a:endCxn id="103" idx="0"/>
          </p:cNvCxnSpPr>
          <p:nvPr/>
        </p:nvCxnSpPr>
        <p:spPr>
          <a:xfrm>
            <a:off x="6895800" y="2590920"/>
            <a:ext cx="1028880" cy="2134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2979720" y="3124080"/>
            <a:ext cx="12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Те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Архиме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3560" y="3178080"/>
            <a:ext cx="11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Те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Плато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69320" y="5029200"/>
            <a:ext cx="150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Выпукл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призмы 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антиприз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3352680"/>
            <a:ext cx="1523880" cy="1600200"/>
          </a:xfrm>
          <a:prstGeom prst="pentagon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Тел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Кеплера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Пуанс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96" idx="2"/>
            <a:endCxn id="113" idx="0"/>
          </p:cNvCxnSpPr>
          <p:nvPr/>
        </p:nvCxnSpPr>
        <p:spPr>
          <a:xfrm flipH="1">
            <a:off x="6781320" y="2590920"/>
            <a:ext cx="115200" cy="762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039200" y="5081760"/>
            <a:ext cx="180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Невыпукл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полуправиль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однород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многогран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03960" y="5310360"/>
            <a:ext cx="14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Невыпукл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призмы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антипризм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Малый додекогемиикосаэдр"/>
          <p:cNvPicPr/>
          <p:nvPr/>
        </p:nvPicPr>
        <p:blipFill>
          <a:blip r:embed="rId1"/>
          <a:stretch/>
        </p:blipFill>
        <p:spPr>
          <a:xfrm>
            <a:off x="7010280" y="3808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Ромбоикосододекаэдр (JPEG)"/>
          <p:cNvPicPr/>
          <p:nvPr/>
        </p:nvPicPr>
        <p:blipFill>
          <a:blip r:embed="rId2"/>
          <a:stretch/>
        </p:blipFill>
        <p:spPr>
          <a:xfrm>
            <a:off x="3962520" y="16002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Тетрадекаграмматическая антипризма"/>
          <p:cNvPicPr/>
          <p:nvPr/>
        </p:nvPicPr>
        <p:blipFill>
          <a:blip r:embed="rId3"/>
          <a:stretch/>
        </p:blipFill>
        <p:spPr>
          <a:xfrm>
            <a:off x="1143000" y="380880"/>
            <a:ext cx="731880" cy="7318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81080" y="685800"/>
            <a:ext cx="6912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Правильными многогранниками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называют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уклые многогранники, все грани     и все углы которых равны, причем грани - правильные многоугольни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ой вершине правильного многогранника сходится одно и то же число рёбер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двугранные углы при рёбрах и все многогранные углы при вершинах  правильного многоугольника рав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авильные многогранники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трехмерный аналог плоских правильных многоугольников.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136548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1606680" cy="1403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15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Правильные многогранн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914400" y="914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колько же их существует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1600200"/>
            <a:ext cx="716292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Рассмотрим развертку вершины многогранника. Каждая вершина может принадлежать трем и более граня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Сначала рассмотрим случай, когда грани многогранника - равносторонние треугольники. Поскольку внутренний угол равностороннего треугольника равен 60°, три таких угла дадут в развертке 180°. Если теперь склеить развертку в многогранный угол, получится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тетраэдр</a:t>
            </a:r>
            <a:r>
              <a:rPr b="0" lang="en-US" sz="2400" spc="-1" strike="noStrike" u="sng">
                <a:solidFill>
                  <a:srgbClr val="ff5050"/>
                </a:solidFill>
                <a:uFillTx/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многогранник, в каждой вершине которого встречаются три правильные треугольные грани. Если добавить к развертке вершины еще один треугольник, в сумме получится 240°. Это развертка вершины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октаэдр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 Добавление пятого треугольника даст угол 300° - мы получаем развертку вершины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икосаэдр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 Если же добавить еще один, шестой треугольник, сумма углов станет равной 360° - эта развертка, очевидно, не может соответствовать ни одному выпуклому многогранник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Модель тетраэдра (VRML)"/>
          <p:cNvPicPr/>
          <p:nvPr/>
        </p:nvPicPr>
        <p:blipFill>
          <a:blip r:embed="rId4"/>
          <a:stretch/>
        </p:blipFill>
        <p:spPr>
          <a:xfrm>
            <a:off x="457200" y="17524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Модель октаэдра (VRML)"/>
          <p:cNvPicPr/>
          <p:nvPr/>
        </p:nvPicPr>
        <p:blipFill>
          <a:blip r:embed="rId5"/>
          <a:stretch/>
        </p:blipFill>
        <p:spPr>
          <a:xfrm>
            <a:off x="457200" y="3429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Модель икосаэдра - первый вариант раскраски (VRML)"/>
          <p:cNvPicPr/>
          <p:nvPr/>
        </p:nvPicPr>
        <p:blipFill>
          <a:blip r:embed="rId6"/>
          <a:stretch/>
        </p:blipFill>
        <p:spPr>
          <a:xfrm>
            <a:off x="457200" y="51814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57400" y="457200"/>
            <a:ext cx="6858000" cy="58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Теперь перейдем к квадратным граням. Развертка из трех квадратных граней имеет угол 3x90°=270° - получается вершина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куба</a:t>
            </a:r>
            <a:r>
              <a:rPr b="0" lang="en-US" sz="2400" spc="-1" strike="noStrike" u="sng">
                <a:solidFill>
                  <a:srgbClr val="ff5050"/>
                </a:solidFill>
                <a:uFillTx/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который также называют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гексаэдром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 Добавление еще одного квадрата увеличит угол до 360° - этой развертке уже не соответствует никакой выпуклый многогранни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Три пятиугольные грани дают угол развертки 3*108°=324 - вершина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додекаэдра</a:t>
            </a:r>
            <a:r>
              <a:rPr b="0" lang="en-US" sz="2400" spc="-1" strike="noStrike" u="sng">
                <a:solidFill>
                  <a:srgbClr val="ff5050"/>
                </a:solidFill>
                <a:uFillTx/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Если добавить еще один пятиугольник, получим больше 360° - поэтому останавливаем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Для шестиугольников уже три грани дают угол развертки 3*120°=360°, поэтому правильного выпуклого многогранника с шестиугольными гранями не существует. Если же грань имеет еще больше углов, то развертка будет иметь еще больший угол. Значит, правильных выпуклых многогранников с гранями, имеющими шесть и более углов, не существу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Модель куба (VRML)"/>
          <p:cNvPicPr/>
          <p:nvPr/>
        </p:nvPicPr>
        <p:blipFill>
          <a:blip r:embed="rId4"/>
          <a:stretch/>
        </p:blipFill>
        <p:spPr>
          <a:xfrm>
            <a:off x="228600" y="9144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Модель додекаэдра - 4 цвета (VRML)"/>
          <p:cNvPicPr/>
          <p:nvPr/>
        </p:nvPicPr>
        <p:blipFill>
          <a:blip r:embed="rId5"/>
          <a:stretch/>
        </p:blipFill>
        <p:spPr>
          <a:xfrm>
            <a:off x="228600" y="3809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5120" y="2286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Сделаем вывод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219320"/>
            <a:ext cx="70866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Мы убедились, что существует лишь пять выпуклых правильных многогранников - 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тетраэдр</a:t>
            </a:r>
            <a:r>
              <a:rPr b="0" i="1" lang="en-US" sz="3200" spc="-1" strike="noStrike">
                <a:solidFill>
                  <a:srgbClr val="ff0033"/>
                </a:solidFill>
                <a:latin typeface="Times New Roman"/>
              </a:rPr>
              <a:t>, 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октаэдр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икосаэдр</a:t>
            </a:r>
            <a:r>
              <a:rPr b="0" i="1" lang="en-US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с треугольными гранями, 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куб (гексаэдр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с квадратными гранями и 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додекаэдр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с пятиугольными гран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472428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Эти тела еще называю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телами Плато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0" y="4572000"/>
            <a:ext cx="1684440" cy="19969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5ikos2pros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1085760" cy="1209600"/>
          </a:xfrm>
          <a:prstGeom prst="rect">
            <a:avLst/>
          </a:prstGeom>
          <a:ln w="0">
            <a:noFill/>
          </a:ln>
        </p:spPr>
      </p:pic>
      <p:pic>
        <p:nvPicPr>
          <p:cNvPr id="137" name="5okta2pros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1123920" cy="1152720"/>
          </a:xfrm>
          <a:prstGeom prst="rect">
            <a:avLst/>
          </a:prstGeom>
          <a:ln w="0">
            <a:noFill/>
          </a:ln>
        </p:spPr>
      </p:pic>
      <p:pic>
        <p:nvPicPr>
          <p:cNvPr id="138" name="5kub2pros" descr=""/>
          <p:cNvPicPr/>
          <p:nvPr/>
        </p:nvPicPr>
        <p:blipFill>
          <a:blip r:embed="rId3"/>
          <a:stretch/>
        </p:blipFill>
        <p:spPr>
          <a:xfrm>
            <a:off x="3048120" y="4114800"/>
            <a:ext cx="1133280" cy="1181160"/>
          </a:xfrm>
          <a:prstGeom prst="rect">
            <a:avLst/>
          </a:prstGeom>
          <a:ln w="0">
            <a:noFill/>
          </a:ln>
        </p:spPr>
      </p:pic>
      <p:pic>
        <p:nvPicPr>
          <p:cNvPr id="139" name="5dode2pros" descr=""/>
          <p:cNvPicPr/>
          <p:nvPr/>
        </p:nvPicPr>
        <p:blipFill>
          <a:blip r:embed="rId4"/>
          <a:stretch/>
        </p:blipFill>
        <p:spPr>
          <a:xfrm>
            <a:off x="3048120" y="5410080"/>
            <a:ext cx="1133280" cy="1105200"/>
          </a:xfrm>
          <a:prstGeom prst="rect">
            <a:avLst/>
          </a:prstGeom>
          <a:ln w="0">
            <a:noFill/>
          </a:ln>
        </p:spPr>
      </p:pic>
      <p:pic>
        <p:nvPicPr>
          <p:cNvPr id="140" name="ogon" descr=""/>
          <p:cNvPicPr/>
          <p:nvPr/>
        </p:nvPicPr>
        <p:blipFill>
          <a:blip r:embed="rId5"/>
          <a:stretch/>
        </p:blipFill>
        <p:spPr>
          <a:xfrm>
            <a:off x="304920" y="380880"/>
            <a:ext cx="1342800" cy="990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00200" y="914400"/>
            <a:ext cx="44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1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о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380880"/>
            <a:ext cx="46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раэд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woda" descr=""/>
          <p:cNvPicPr/>
          <p:nvPr/>
        </p:nvPicPr>
        <p:blipFill>
          <a:blip r:embed="rId6"/>
          <a:stretch/>
        </p:blipFill>
        <p:spPr>
          <a:xfrm>
            <a:off x="304920" y="1600200"/>
            <a:ext cx="1342800" cy="1057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14800" y="1676520"/>
            <a:ext cx="46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осаэд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wozduh" descr=""/>
          <p:cNvPicPr/>
          <p:nvPr/>
        </p:nvPicPr>
        <p:blipFill>
          <a:blip r:embed="rId7"/>
          <a:stretch/>
        </p:blipFill>
        <p:spPr>
          <a:xfrm>
            <a:off x="304920" y="2819520"/>
            <a:ext cx="1342800" cy="1009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09680" y="1600200"/>
            <a:ext cx="440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1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2971800"/>
            <a:ext cx="46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таэд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sem2" descr=""/>
          <p:cNvPicPr/>
          <p:nvPr/>
        </p:nvPicPr>
        <p:blipFill>
          <a:blip r:embed="rId8"/>
          <a:stretch/>
        </p:blipFill>
        <p:spPr>
          <a:xfrm>
            <a:off x="304920" y="4114800"/>
            <a:ext cx="1342800" cy="1028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095880" y="3048120"/>
            <a:ext cx="440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1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4114800"/>
            <a:ext cx="46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1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ксаэд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vselen" descr=""/>
          <p:cNvPicPr/>
          <p:nvPr/>
        </p:nvPicPr>
        <p:blipFill>
          <a:blip r:embed="rId9"/>
          <a:stretch/>
        </p:blipFill>
        <p:spPr>
          <a:xfrm>
            <a:off x="304920" y="5486400"/>
            <a:ext cx="1342800" cy="1009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523880" y="5943600"/>
            <a:ext cx="44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еленн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5486400"/>
            <a:ext cx="46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декаэд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920" y="304920"/>
            <a:ext cx="5028840" cy="6324120"/>
            <a:chOff x="304920" y="304920"/>
            <a:chExt cx="5028840" cy="6324120"/>
          </a:xfrm>
        </p:grpSpPr>
        <p:grpSp>
          <p:nvGrpSpPr>
            <p:cNvPr id="155" name=""/>
            <p:cNvGrpSpPr/>
            <p:nvPr/>
          </p:nvGrpSpPr>
          <p:grpSpPr>
            <a:xfrm>
              <a:off x="309600" y="309960"/>
              <a:ext cx="5017680" cy="6312960"/>
              <a:chOff x="309600" y="309960"/>
              <a:chExt cx="5017680" cy="631296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09600" y="309960"/>
                <a:ext cx="2444400" cy="1243440"/>
                <a:chOff x="309600" y="309960"/>
                <a:chExt cx="2444400" cy="1243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19320" y="320040"/>
                  <a:ext cx="2424240" cy="122292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09600" y="309960"/>
                  <a:ext cx="2444400" cy="124344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754360" y="309960"/>
                <a:ext cx="2572920" cy="1243440"/>
                <a:chOff x="2754360" y="309960"/>
                <a:chExt cx="2572920" cy="12434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764800" y="320040"/>
                  <a:ext cx="2552400" cy="122292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754360" y="309960"/>
                  <a:ext cx="2572920" cy="124344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09600" y="1575000"/>
                <a:ext cx="2444400" cy="1317240"/>
                <a:chOff x="309600" y="1575000"/>
                <a:chExt cx="2444400" cy="1317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19320" y="1585080"/>
                  <a:ext cx="2424240" cy="129672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09600" y="1575000"/>
                  <a:ext cx="2444400" cy="131724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754360" y="1575000"/>
                <a:ext cx="2572920" cy="1317240"/>
                <a:chOff x="2754360" y="1575000"/>
                <a:chExt cx="2572920" cy="1317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764800" y="1585080"/>
                  <a:ext cx="2552400" cy="129672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754360" y="1575000"/>
                  <a:ext cx="2572920" cy="131724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09600" y="2914200"/>
                <a:ext cx="2444400" cy="969480"/>
                <a:chOff x="309600" y="2914200"/>
                <a:chExt cx="2444400" cy="9694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19320" y="2924640"/>
                  <a:ext cx="2424240" cy="94860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09600" y="2914200"/>
                  <a:ext cx="2444400" cy="96948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754360" y="2914200"/>
                <a:ext cx="2572920" cy="969480"/>
                <a:chOff x="2754360" y="2914200"/>
                <a:chExt cx="2572920" cy="9694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764800" y="2924640"/>
                  <a:ext cx="2552400" cy="94860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754360" y="2914200"/>
                  <a:ext cx="2572920" cy="96948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09600" y="3905280"/>
                <a:ext cx="2444400" cy="1416240"/>
                <a:chOff x="309600" y="3905280"/>
                <a:chExt cx="2444400" cy="1416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19320" y="3915720"/>
                  <a:ext cx="2424240" cy="139500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09600" y="3905280"/>
                  <a:ext cx="2444400" cy="141624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2754360" y="3905280"/>
                <a:ext cx="2572920" cy="1416240"/>
                <a:chOff x="2754360" y="3905280"/>
                <a:chExt cx="2572920" cy="1416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764800" y="3915720"/>
                  <a:ext cx="2552400" cy="139500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754360" y="3905280"/>
                  <a:ext cx="2572920" cy="141624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09600" y="5342400"/>
                <a:ext cx="2444400" cy="1280520"/>
                <a:chOff x="309600" y="5342400"/>
                <a:chExt cx="2444400" cy="12805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19320" y="5352840"/>
                  <a:ext cx="2424240" cy="125964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09600" y="5342400"/>
                  <a:ext cx="2444400" cy="128052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754360" y="5342400"/>
                <a:ext cx="2572920" cy="1280520"/>
                <a:chOff x="2754360" y="5342400"/>
                <a:chExt cx="2572920" cy="12805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764800" y="5352840"/>
                  <a:ext cx="2552400" cy="125964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754360" y="5342400"/>
                  <a:ext cx="2572920" cy="1280520"/>
                </a:xfrm>
                <a:prstGeom prst="rect">
                  <a:avLst/>
                </a:prstGeom>
                <a:noFill/>
                <a:ln cap="rnd" w="0">
                  <a:solidFill>
                    <a:srgbClr val="0000ff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" name=""/>
            <p:cNvSpPr/>
            <p:nvPr/>
          </p:nvSpPr>
          <p:spPr>
            <a:xfrm>
              <a:off x="304920" y="304920"/>
              <a:ext cx="5028840" cy="6324120"/>
            </a:xfrm>
            <a:prstGeom prst="rect">
              <a:avLst/>
            </a:prstGeom>
            <a:noFill/>
            <a:ln cap="rnd" w="0">
              <a:solidFill>
                <a:srgbClr val="0000ff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828800" y="20574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Times New Roman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4800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9900"/>
                </a:solidFill>
                <a:latin typeface="Times New Roman"/>
              </a:rPr>
              <a:t>зем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3352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ff"/>
                </a:solidFill>
                <a:latin typeface="Times New Roman"/>
              </a:rPr>
              <a:t>возду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304920"/>
            <a:ext cx="3986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Начиная с 7 века до нашей эры в Древней       Греции создаются философские школы ,  в которых происходит постепенный переход         от практической к философской геометрии.   Большое значение в этих  школах приобретают рассуждения, с  помощью которых удалось получать новые геометрические свойства</a:t>
            </a:r>
            <a:r>
              <a:rPr b="0" i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3048120" y="457200"/>
            <a:ext cx="1066680" cy="998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6386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64000" y="1916280"/>
            <a:ext cx="216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Одной из первых и самых известных школ была Пифагорейская, названная в честь своего основателя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Пифагора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3124080"/>
            <a:ext cx="321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32767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08720" y="328464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Отличительным знаком пифагорейцев была пентаграмма, на языке математики- это правильный невыпуклый   или звездчатый пятиугольник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4114800"/>
            <a:ext cx="3429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Пентаграмме присваивалось способность защищать человека от злых духов. Существование только пяти правильных многогранников относили к строению материи и Вселенной. Пифагорейцы, а затем Платон полагали, что материя состоит из четырех  основных элементов:  огня, земли, воздуха и воды.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5715000"/>
            <a:ext cx="32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Согласно их мнению, атомы основных элементов должны иметь форму различных Платоновых тел.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7740720" y="1773360"/>
            <a:ext cx="1131840" cy="15364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5"/>
                            </p:stCondLst>
                            <p:childTnLst>
                              <p:par>
                                <p:cTn id="2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75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75"/>
                            </p:stCondLst>
                            <p:childTnLst>
                              <p:par>
                                <p:cTn id="2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75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75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75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9:19:58Z</dcterms:created>
  <dc:creator>Сергей</dc:creator>
  <dc:description/>
  <dc:language>en-US</dc:language>
  <cp:lastModifiedBy>Синица Алла Александровна</cp:lastModifiedBy>
  <dcterms:modified xsi:type="dcterms:W3CDTF">2005-09-23T18:51:25Z</dcterms:modified>
  <cp:revision>49</cp:revision>
  <dc:subject/>
  <dc:title>Презентация PowerPoint</dc:title>
</cp:coreProperties>
</file>